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24569"/>
        <c:axId val="88404080"/>
      </c:barChart>
      <c:catAx>
        <c:axId val="56524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04080"/>
        <c:crosses val="autoZero"/>
        <c:auto val="1"/>
        <c:lblAlgn val="ctr"/>
        <c:lblOffset val="100"/>
        <c:noMultiLvlLbl val="0"/>
      </c:catAx>
      <c:valAx>
        <c:axId val="88404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24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1DB-9F7E-42C9-93EB-AFD39E03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0F9-02BA-4F98-84C4-58C570FB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204-2B38-496A-93C2-31F667D9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025-C124-40C9-81BC-7E18B780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77A-C39A-4381-B9B8-92605E72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67D-D702-4EDD-89BD-FE0276D8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AD5-6CAD-4F4A-9BE0-D2797F8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24A-616A-4484-936A-F31408E3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C96-D506-4F06-ABDB-44D3284E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765-53E7-4B35-912D-433F915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65E-1B1D-47E6-B166-F1EA533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2BC-0F3D-4972-A9D3-4DBADB0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7DF48-1630-4FC5-8DE5-92DC4C4045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