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81802"/>
        <c:axId val="1182399"/>
      </c:barChart>
      <c:catAx>
        <c:axId val="31981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2399"/>
        <c:crosses val="autoZero"/>
        <c:auto val="1"/>
        <c:lblAlgn val="ctr"/>
        <c:lblOffset val="100"/>
        <c:noMultiLvlLbl val="0"/>
      </c:catAx>
      <c:valAx>
        <c:axId val="1182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81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BCF-A41A-4932-9AAD-B6C21240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D66-8DD4-49F2-AE26-7D821F0D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793-8985-46E4-83AD-7745079A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16E-20E7-432A-9670-B02AE06A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343-C0B6-4DE3-A081-D2DA5CF7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2DB-4118-4A99-9FCC-052439BE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727-DC99-45D4-BE0E-E5EE6A6C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632-AE49-4366-9737-6699C021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B2D-BFA0-447C-80FE-7FC0DD1D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D34-8E98-42CA-9877-14A4E796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F7C-B28E-4079-BFE4-DC62FDBF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25E-500D-49E4-9971-2C13E0EF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2456A-8B4F-41A4-90AB-230B51EC79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